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8F7-7124-4DD2-8885-DDADF49A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60F0-6496-476B-8231-683C22B9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2DC-00E7-4069-B545-5BC5A3CF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B273-4048-465F-9B11-C20368DE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3884-9E55-4CA1-B088-8B1AA084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5D08-E7BE-4242-914D-6B1D7679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05F3-FAB1-4CFC-A268-A4A09E10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5C11-4918-48F2-A5AC-766856EF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D86D-483E-4267-B84F-5E5F111E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E0D7-4320-4680-861D-EC5F6047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E8CD-7BF0-4D2B-B55D-F77EAC2A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30E2-5CCD-40ED-809D-1BB48F00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042E-B979-408B-A616-8D29DB09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83D5-89EB-4DCB-A69A-E9F7C82A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275A-1E2D-45F3-8C21-0FE5D0C3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B0A0-A930-4359-B39E-4FD117C8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A55B-384B-4887-8BF3-82511FB6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733C-C138-487E-BCF1-6A9A5C27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90A-0D1B-4441-A286-8805E02A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6D7-1860-4716-8CCB-FA0D873C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2F86-2858-4AAE-99FE-F2D42C33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FB24-1710-47D2-8306-DC45269B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099-1932-4EA3-BE99-5AFE2F27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D38E-01FC-4617-A2D2-88EDA447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41E6-A55F-48F7-A038-433BFFE411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86F9-D8E3-483F-A542-C97A69412B8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ir, We Would See Jesus”</a:t>
            </a:r>
            <a:br>
              <a:rPr sz="4000"/>
            </a:b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ife of Chris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3657600"/>
            <a:ext cx="81536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9, Lesson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20-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t.4:1-11, Mark 1:12-13, John 1:19-5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A194-7144-4DA8-94E7-CBB301ED9C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The Life of Chris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ars of Prepa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ginning Min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at Galilean Min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 of Retir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sing Min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st We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rrection and Exal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22096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We are 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105520" y="2514600"/>
            <a:ext cx="1371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DA96-3822-4DF1-9B68-B85924C454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Temptation of Jesus</a:t>
            </a:r>
            <a:br>
              <a:rPr sz="36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t. 4:1-11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Wilderness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was without food 40 D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tan said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If you are the Son of God, command these stones to turn into bread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replied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It is written: Man does not live by bread alone but by every word that comes from the mouth of God.”  (Deut. 8: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emptation – Lust of the Fle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FCE2-3AC6-4A38-8A6A-3DF42D9108C6}" type="slidenum">
              <a:t>3</a:t>
            </a:fld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Temptation of Jesus</a:t>
            </a:r>
            <a:br>
              <a:rPr sz="36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k 1:12-13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the highest point of the temple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tan said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If you are the Son of God, throw yourself down because it is written: He will command His angels concerning you, and they will lift you up on their hands, so that you will not strike your foot against a stone.”  (Psa. 91:11-12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replied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It is also written: Do not test the Lord your God.” (Deut. 6:1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emptation – Pride of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CB9-E57D-4670-B6FD-F99CB9EA834C}" type="slidenum">
              <a:t>4</a:t>
            </a:fld>
          </a:p>
        </p:txBody>
      </p:sp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Temptation of Jesus</a:t>
            </a:r>
            <a:br>
              <a:rPr sz="36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uke  4:1-13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the top of a very high mountain looking over all the kingdoms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tan sa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“All these things I will give you if you will bow down and worship me.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repli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“Get out of here Satan! Because it is written:  Worship the Lord your God, and serve Him alone.” (Deut. 6:1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emptation – Lust of the Ey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061-51FD-447E-BDD6-2D7B5FA01723}" type="slidenum">
              <a:t>5</a:t>
            </a:fld>
          </a:p>
        </p:txBody>
      </p: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John’s Testimony of Himself</a:t>
            </a:r>
            <a:br>
              <a:rPr sz="36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John 1:19-28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ws and Levites asked John to identify him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repli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am not the Chr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am not Elij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am not the Prophet Moses foreto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am the voice of one calling in the wilder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baptize with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am not worthy to untie the thongs of His sand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30CC-7120-413F-A6C8-BF3B1B8A2270}" type="slidenum">
              <a:t>6</a:t>
            </a:fld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John’s Testimony Regarding Jesus’ Baptism</a:t>
            </a:r>
            <a:br>
              <a:rPr sz="32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John 1:29-34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k the Lamb of God, who takes away the sin of the world!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existed before 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pirit came down from heaven as a dove and remained on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ill baptize you with the Holy Spir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e is the Son of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7430-607E-4AB6-8DDD-6D0051E49252}" type="slidenum">
              <a:t>7</a:t>
            </a:fld>
          </a:p>
        </p:txBody>
      </p:sp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John’s Disciples Follow Jesus</a:t>
            </a:r>
            <a:br>
              <a:rPr sz="36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John 1:35-51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directed His disciples to Jesus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r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ter (Also called Simon, Ceph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ther disciple (probably Joh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returned to Galile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ill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han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4DDE-A1ED-4B15-96E1-DC47B9543B24}" type="slidenum">
              <a:t>8</a:t>
            </a:fld>
          </a:p>
        </p:txBody>
      </p:sp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AE77-A761-4618-98B0-FD8404D720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2:10:53Z</dcterms:created>
  <dc:creator>John Vines</dc:creator>
  <dc:description/>
  <dc:language>en-US</dc:language>
  <cp:lastModifiedBy>Frank D Vines</cp:lastModifiedBy>
  <dcterms:modified xsi:type="dcterms:W3CDTF">2006-07-23T12:54:56Z</dcterms:modified>
  <cp:revision>25</cp:revision>
  <dc:subject/>
  <dc:title>Sir, We Would See Jesus Life of Christ</dc:title>
</cp:coreProperties>
</file>